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C34-2555-4E79-B825-04931496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9A2-1199-4034-B393-9091304C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05D-61B4-4B5D-B217-0CC0518B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1F1-C1BF-4FCF-8DA0-20E36637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B90-584C-4278-A1D5-9E37934B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571-872D-4795-88E2-FD6DAEB6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9A1D-B3DA-4B39-BD2B-072B6940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A075-595D-4824-A5B1-C62AAAA1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29D2-3941-4701-B4E0-CFA551BA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213-6943-425F-8795-28610BAC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6136-6D0B-4DCE-9B26-C7B3483C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1EDD-29EB-46A4-8945-1E6E1A16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C6DF-C1B0-4190-8716-47482219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5499-2AA2-4D02-B90D-159DFBF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7F93-1545-49CD-A482-5823A6C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0B5D-81F3-4916-A03A-DD5881F2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E755-2E2E-4A59-9AF3-0BA4487B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4676-9CCC-49C0-B3C5-994474BE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A1EA-83A7-47A7-A1BB-81C39077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FF03E-84F3-4660-9D94-E2E6ECA9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D59-E967-4AEB-A70A-BC0F991C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2027-8202-42A8-B471-CF178D96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90BE-8370-46A4-9982-462EFBBC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55FF-A688-476D-B59E-2B1C9665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0AE86-B4FD-4B75-B561-8CDBE962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37AD-57F4-49C7-B090-4604D761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E78CB-0ECB-49B9-B1FA-C77F2CCD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DEE8A-042B-41C6-9F81-D7D2CA00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FF185-C564-4040-A6B1-EB2A73C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3306-47DA-48C0-920D-C482E552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AAF1-56D4-42E9-B0C7-D0A231E8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361-667C-4BDE-9154-B3B63D94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A3A3-E432-4E86-AEE4-C2346E94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5ED9-B46F-4D2C-894E-76B4A9FB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DD27D-7EA2-4CDF-AB67-4ADA8F72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FDCA-46F3-43F0-B73D-9DE91C08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891A-3C4C-4AA8-A68B-03E84046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8A30C-5F71-4480-8FDF-AB9CCFE9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72F0-3959-471B-BC4E-9815DEA9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31E5-F48D-4598-9D1E-485B379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5A91B-22F0-407E-A760-F64DB92B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F3ADE-01FB-4B62-B084-028BE65E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BC6-B838-42F9-994A-50910C12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C56A5-6F42-41E7-8E9B-08755C87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CDFC8-1A59-45B2-80C8-CD672967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77F7E-CB57-40C7-BA5C-A8F406DC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054-1195-4DE5-A90A-0B3C67F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EF9-53C6-4E15-B8E3-C5D9BBE4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CFD861F-D284-4453-8C3C-0725F84AA18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5CA7A08-3A61-49FF-8E2B-A75A226D2FC1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19540E5-AFCD-4ECC-84C3-E2ED951119C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CCAE4FD-37E0-4009-AEBC-A684AD02258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1680" indent="-3016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i="1" lang="pl-PL" sz="3200" spc="-1" strike="noStrike">
                <a:solidFill>
                  <a:srgbClr val="374c81"/>
                </a:solidFill>
                <a:latin typeface="Century Gothic"/>
              </a:rPr>
              <a:t>Wyjaśnij skrót SAMPLE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 – (Symptoms) – Objawy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A – (Allergies) – Alergi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M – (Medicines) – Medykament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 – (Past medical history) – Przebyte chorob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L – (Lunch) – Ostatni posiłe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E – (Events preceding) – Okoliczności zdarzenia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